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2952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65720" y="-36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5120" y="525600"/>
            <a:ext cx="350532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65720" y="6657480"/>
            <a:ext cx="402912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44BA-D5FC-440E-B838-3D6B55608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9751-71F2-4FC6-9D5E-B1239B17F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Header Placeholder 5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895480" y="525600"/>
            <a:ext cx="3505320" cy="26287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29880" y="3330720"/>
            <a:ext cx="74358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5265720" y="665784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9419-0B37-4FED-8F0E-87B3129C4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Date Placeholder 4"/>
          <p:cNvSpPr/>
          <p:nvPr/>
        </p:nvSpPr>
        <p:spPr>
          <a:xfrm>
            <a:off x="526572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/15/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Header Placeholder 5"/>
          <p:cNvSpPr/>
          <p:nvPr/>
        </p:nvSpPr>
        <p:spPr>
          <a:xfrm>
            <a:off x="0" y="0"/>
            <a:ext cx="4029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ACHDA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9DE-4469-414C-A27D-E4B0342F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87E7-7587-484E-9F90-99F4E21C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F4CD-1CE4-4C08-AA78-5FCB44426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516-F51E-478F-A528-038B09D4B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91AE-5BDC-4D5B-866D-B145855E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691F-D43C-43C0-838D-3FA1D6CAF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94E5-2BBC-44D1-9E92-E32DA5B2C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E9A-58E4-4A76-B336-A6DE84A0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AF6-DFD6-49A3-BA35-552E3B850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03E-A32C-4DE6-BBD2-9AF3985A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EC0D-D658-4A5B-BC86-54D50B29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00B-A760-439E-8D36-DFC37CA2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7B4C8-E658-4468-B5A5-82EA71152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grayscl/>
          </a:blip>
          <a:srcRect l="7701" t="39459" r="3844" b="33906"/>
          <a:stretch/>
        </p:blipFill>
        <p:spPr>
          <a:xfrm>
            <a:off x="152280" y="5181480"/>
            <a:ext cx="8991720" cy="1495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752480" y="114300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Noticing Growth and Change in Our Learners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alk in Groups of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How do we/how have we in congregational education figured out, either formally or informally, what our learners are learning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Calibri"/>
              </a:rPr>
              <a:t>If. . .then. . 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If we use new approaches to learning,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then we also need to use new approaches to assessing learning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to think about what small goals our learners need to achieve in order to reach our priority go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We need evidence that they are learning and growing in that dire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C:\Program Files\Microsoft Office\MEDIA\CAGCAT10\j0293844.wmf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19320" y="914400"/>
            <a:ext cx="662940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2"/>
          <p:cNvSpPr/>
          <p:nvPr/>
        </p:nvSpPr>
        <p:spPr>
          <a:xfrm>
            <a:off x="2971800" y="533520"/>
            <a:ext cx="3200400" cy="68580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riority Go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AutoShape 3"/>
          <p:cNvSpPr/>
          <p:nvPr/>
        </p:nvSpPr>
        <p:spPr>
          <a:xfrm>
            <a:off x="4419720" y="1295280"/>
            <a:ext cx="399960" cy="335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2514600" y="1676520"/>
            <a:ext cx="4038480" cy="1066680"/>
          </a:xfrm>
          <a:prstGeom prst="flowChartAlternateProcess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ect or Create 4 Targ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val 6"/>
          <p:cNvSpPr/>
          <p:nvPr/>
        </p:nvSpPr>
        <p:spPr>
          <a:xfrm>
            <a:off x="304920" y="3733920"/>
            <a:ext cx="213336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KNOWING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7"/>
          <p:cNvSpPr/>
          <p:nvPr/>
        </p:nvSpPr>
        <p:spPr>
          <a:xfrm>
            <a:off x="2514600" y="3733920"/>
            <a:ext cx="2133720" cy="99036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DO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6"/>
          <p:cNvSpPr/>
          <p:nvPr/>
        </p:nvSpPr>
        <p:spPr>
          <a:xfrm>
            <a:off x="4648320" y="3657600"/>
            <a:ext cx="213336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IEV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48"/>
          <p:cNvSpPr/>
          <p:nvPr/>
        </p:nvSpPr>
        <p:spPr>
          <a:xfrm>
            <a:off x="6858000" y="3657600"/>
            <a:ext cx="2133720" cy="990720"/>
          </a:xfrm>
          <a:prstGeom prst="ellipse">
            <a:avLst/>
          </a:prstGeom>
          <a:solidFill>
            <a:srgbClr val="000000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BELONGING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traight Connector 42"/>
          <p:cNvSpPr/>
          <p:nvPr/>
        </p:nvSpPr>
        <p:spPr>
          <a:xfrm flipV="1">
            <a:off x="1523880" y="2819520"/>
            <a:ext cx="167652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Straight Connector 44"/>
          <p:cNvSpPr/>
          <p:nvPr/>
        </p:nvSpPr>
        <p:spPr>
          <a:xfrm flipV="1">
            <a:off x="3580560" y="2743200"/>
            <a:ext cx="762120" cy="990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traight Connector 46"/>
          <p:cNvSpPr/>
          <p:nvPr/>
        </p:nvSpPr>
        <p:spPr>
          <a:xfrm flipH="1" flipV="1">
            <a:off x="5257800" y="2819520"/>
            <a:ext cx="45720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traight Connector 48"/>
          <p:cNvSpPr/>
          <p:nvPr/>
        </p:nvSpPr>
        <p:spPr>
          <a:xfrm flipH="1" flipV="1">
            <a:off x="6172200" y="2743200"/>
            <a:ext cx="1752480" cy="9144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49"/>
          <p:cNvSpPr/>
          <p:nvPr/>
        </p:nvSpPr>
        <p:spPr>
          <a:xfrm>
            <a:off x="1523880" y="5410080"/>
            <a:ext cx="624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ME TARGETS ALL YEA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xamples of Noticing Tar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Recognizes dilemmas faced by biblical characters in daily li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resses a sense of  responsibility to help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akes leadership roles in Jewish communal celebr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ngages in Jewish prayers and rituals at h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 Task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ich of these noticing targets strikes you as particularly meaningful or important in connection to your priority goal as your congregation has begun to understand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17:27Z</dcterms:created>
  <dc:creator> </dc:creator>
  <dc:description/>
  <dc:language>en-US</dc:language>
  <cp:lastModifiedBy>marxa</cp:lastModifiedBy>
  <dcterms:modified xsi:type="dcterms:W3CDTF">2009-11-12T17:09:20Z</dcterms:modified>
  <cp:revision>9</cp:revision>
  <dc:subject/>
  <dc:title>Slide 1</dc:title>
</cp:coreProperties>
</file>